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66F5-F66F-4039-95C7-C1F1154C9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541008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3352320"/>
            <a:ext cx="5451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268160"/>
            <a:ext cx="5451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EDAC-894F-479A-9392-037A5BFEC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541008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3352320"/>
            <a:ext cx="2660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50440" y="3352320"/>
            <a:ext cx="2660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268160"/>
            <a:ext cx="2660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250440" y="4268160"/>
            <a:ext cx="2660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194C-0484-4F98-A5A4-FA77AC782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541008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3352320"/>
            <a:ext cx="1755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00040" y="3352320"/>
            <a:ext cx="1755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143240" y="3352320"/>
            <a:ext cx="1755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268160"/>
            <a:ext cx="1755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00040" y="4268160"/>
            <a:ext cx="1755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143240" y="4268160"/>
            <a:ext cx="1755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CC62-558E-4A1F-943F-BE454975D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B11E0-1C90-4EC5-8F52-7C5DA2463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541008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3352320"/>
            <a:ext cx="54514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E7B6D-22A9-4DF1-A942-B72299CFE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541008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3352320"/>
            <a:ext cx="545148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7124F-7F9F-476C-BFC4-0455A25C4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541008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3352320"/>
            <a:ext cx="26600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50440" y="3352320"/>
            <a:ext cx="26600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517E9-3551-4819-AC3A-990C1A0B9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541008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EFD97-B9D4-4F7A-9B24-C2C6E060B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541008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2BC5E-24F5-430C-840B-63DEA0FC6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541008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3352320"/>
            <a:ext cx="2660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250440" y="3352320"/>
            <a:ext cx="26600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268160"/>
            <a:ext cx="2660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276B8-CA51-449C-A17B-F80016502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541008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3352320"/>
            <a:ext cx="54514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4F61-76C9-462C-919D-CB3A5443C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541008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3352320"/>
            <a:ext cx="26600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250440" y="3352320"/>
            <a:ext cx="2660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250440" y="4268160"/>
            <a:ext cx="2660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A723F-82FC-47DD-AD58-98BBF00C4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541008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3352320"/>
            <a:ext cx="2660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250440" y="3352320"/>
            <a:ext cx="2660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268160"/>
            <a:ext cx="5451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202B6-F2F7-416A-9F8F-CAACD530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541008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3352320"/>
            <a:ext cx="5451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268160"/>
            <a:ext cx="5451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EA978-F1BE-4022-AB41-BC6245683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541008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3352320"/>
            <a:ext cx="2660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50440" y="3352320"/>
            <a:ext cx="2660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268160"/>
            <a:ext cx="2660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250440" y="4268160"/>
            <a:ext cx="2660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CF153-6467-433E-A2AE-CC7F9C785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541008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3352320"/>
            <a:ext cx="1755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300040" y="3352320"/>
            <a:ext cx="1755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143240" y="3352320"/>
            <a:ext cx="1755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268160"/>
            <a:ext cx="1755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300040" y="4268160"/>
            <a:ext cx="1755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143240" y="4268160"/>
            <a:ext cx="1755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3616D-13FC-46B6-B89E-09A4723CE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541008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3352320"/>
            <a:ext cx="545148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7AD9-B381-4598-90F1-7FD6F8EA6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541008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3352320"/>
            <a:ext cx="26600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250440" y="3352320"/>
            <a:ext cx="26600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9C7D-1C9B-4CF6-B380-D2365CE5C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541008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B2EE-9C51-4261-A6EC-F9DE68F0B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541008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C19A-73BC-40B8-AC21-DB68D6689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541008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3352320"/>
            <a:ext cx="2660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250440" y="3352320"/>
            <a:ext cx="26600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268160"/>
            <a:ext cx="2660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E3C3-B205-4EAB-8D98-D09DCD719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541008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3352320"/>
            <a:ext cx="26600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250440" y="3352320"/>
            <a:ext cx="2660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250440" y="4268160"/>
            <a:ext cx="2660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69C7-4846-4B67-A645-7C9823AA5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541008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3352320"/>
            <a:ext cx="2660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250440" y="3352320"/>
            <a:ext cx="2660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268160"/>
            <a:ext cx="5451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3840-C07D-4767-AC8F-D9CE1E2EE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990720"/>
            <a:ext cx="8305560" cy="8380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8f8f8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04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7053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73665-23C4-4745-9B74-E13D621285EE}" type="slidenum">
              <a:rPr b="1" lang="en-US" sz="14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304560" y="2057040"/>
            <a:ext cx="83055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3300"/>
              </a:buClr>
              <a:buSzPct val="80000"/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683280" indent="-262800">
              <a:spcBef>
                <a:spcPts val="799"/>
              </a:spcBef>
              <a:buClr>
                <a:srgbClr val="003300"/>
              </a:buClr>
              <a:buSzPct val="80000"/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051560" indent="-210240">
              <a:spcBef>
                <a:spcPts val="799"/>
              </a:spcBef>
              <a:buClr>
                <a:srgbClr val="003300"/>
              </a:buClr>
              <a:buSzPct val="80000"/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472040" indent="-210240">
              <a:spcBef>
                <a:spcPts val="799"/>
              </a:spcBef>
              <a:buClr>
                <a:srgbClr val="003300"/>
              </a:buClr>
              <a:buSzPct val="80000"/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1892520" indent="-210240">
              <a:spcBef>
                <a:spcPts val="799"/>
              </a:spcBef>
              <a:buClr>
                <a:srgbClr val="003300"/>
              </a:buClr>
              <a:buSzPct val="80000"/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1892520" indent="-210240">
              <a:spcBef>
                <a:spcPts val="799"/>
              </a:spcBef>
              <a:buClr>
                <a:srgbClr val="003300"/>
              </a:buClr>
              <a:buSzPct val="80000"/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1892520" indent="-210240">
              <a:spcBef>
                <a:spcPts val="799"/>
              </a:spcBef>
              <a:buClr>
                <a:srgbClr val="003300"/>
              </a:buClr>
              <a:buSzPct val="80000"/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676160"/>
            <a:ext cx="541008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8f8f8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094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629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9CD45-258B-4867-A007-1A2C6AD5746D}" type="slidenum">
              <a:rPr b="1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00"/>
              </a:buClr>
              <a:buSzPct val="80000"/>
              <a:buFont typeface="Wingdings" charset="2"/>
              <a:buChar char="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3300"/>
              </a:buClr>
              <a:buSzPct val="80000"/>
              <a:buFont typeface="Wingdings" charset="2"/>
              <a:buChar char="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3300"/>
              </a:buClr>
              <a:buSzPct val="80000"/>
              <a:buFont typeface="Wingdings" charset="2"/>
              <a:buChar char="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SzPct val="80000"/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SzPct val="80000"/>
              <a:buFont typeface="Wingdings" charset="2"/>
              <a:buChar char="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6840" y="1676160"/>
            <a:ext cx="487692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merican Typewriter Condensed"/>
              </a:rPr>
              <a:t>What are the two islands in danger?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merican Typewriter Condensed"/>
              </a:rPr>
              <a:t>Why are they in danger?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merican Typewriter Condensed"/>
              </a:rPr>
              <a:t>What are they trying to accomplish?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7T16:25:11Z</dcterms:created>
  <dc:creator>PA Department of Education</dc:creator>
  <dc:description/>
  <dc:language>en-US</dc:language>
  <cp:lastModifiedBy>PA Department of Education</cp:lastModifiedBy>
  <dcterms:modified xsi:type="dcterms:W3CDTF">2009-05-27T16:29:24Z</dcterms:modified>
  <cp:revision>1</cp:revision>
  <dc:subject/>
  <dc:title>PowerPoint Presentation</dc:title>
</cp:coreProperties>
</file>